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900A-DB40-42B1-BD7E-270DFEC4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CA96-D82F-45A8-9523-4EF2E8EA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1329-1DFC-4A9C-8314-17EA8BED9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DCEF-0344-4DA5-83CB-37F5CEE4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15D1-CBD0-4C45-974D-B452F5E6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7BCA-5C90-4555-BAD9-B34ED778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4DE7-49F1-4F53-BEE6-ACCDA266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2C0A-D59D-47C3-B094-1E14EDEF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E046-DBD8-4D80-8240-6FD88880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9879-F924-4533-888B-EF023390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5FB9-637F-4433-8B6A-4C35394C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5309-78E5-4C4E-A412-2C986FC0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69C9-EEC0-40E0-B143-92265486B67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Mis documentos\Sin título-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Mis documentos\Sin título-1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Mis documentos\Sin título-1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Mis documentos\Sin título-1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Mis documentos\Sin título-1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Mis documentos\Sin título-1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Mis documentos\Sin título-1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Mis documentos\Sin título-1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Mis documentos\Sin título-1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Mis documentos\Sin título-1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Mis documentos\Sin título-1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Mis documentos\Sin título-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Mis documentos\Sin título-2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Mis documentos\Sin título-2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Mis documentos\Sin título-2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Mis documentos\Sin título-2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Mis documentos\Sin título-2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Mis documentos\Sin título-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Mis documentos\Sin título-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Mis documentos\Sin título-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Mis documentos\Sin título-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Mis documentos\Sin título-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Mis documentos\Sin título-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Mis documentos\Sin título-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4T13:34:26Z</dcterms:created>
  <dc:creator>Grupo Editorial</dc:creator>
  <dc:description/>
  <dc:language>en-US</dc:language>
  <cp:lastModifiedBy>TORRES</cp:lastModifiedBy>
  <dcterms:modified xsi:type="dcterms:W3CDTF">2010-12-18T22:26:58Z</dcterms:modified>
  <cp:revision>1</cp:revision>
  <dc:subject/>
  <dc:title>Sin título de diapositiva</dc:title>
</cp:coreProperties>
</file>